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AA35-35BF-4560-8174-309B9235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F3A-FFC9-4FAA-ADB6-A678B0D4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22C2-C351-48BD-9384-E8062697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DE2B-EF5E-4646-8B88-A7190A67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B71-4859-4C60-B099-2FAC1BA6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9495-A710-4588-95B2-64E0D0A4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156-5A6E-4896-87A8-ABF35E3A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6DA-60DC-4E31-BDF8-6519289B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0234-C656-48C2-B9D7-0E21382F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D106-65CB-415D-86F4-01063501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DFF3-EBA2-48F8-81EE-FCF1C3CD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C59-4BF3-4B30-A5E9-4EA2ABE0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C729-A167-4DE3-9DD5-32289C48C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Nicene Cr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, the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aker of heaven and eart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all that is, seen and unse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only Son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ternally begotten 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 from God, Light from L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rue God from true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gotten, not mad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one Being with the Fathe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him all thin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re m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us and for our sal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came down from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incarnate of the Holy Spirit and the Virgin 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became truly hu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our sake he was crucifi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nder Pontius Pilat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suffered dea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accord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Scripture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will come again in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judge the living and the de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is kingdom will have no 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6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the Holy Spir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Lord, the giver of lif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proceeds from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ith the Father and the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s worshipped and glorifi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has spok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proph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7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holy catho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postolic Chur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cknowledge one bap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the forgiveness of s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8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look for the resurre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de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of the world to come.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5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9 of 9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8:07:06Z</dcterms:created>
  <dc:creator>Anon Anon</dc:creator>
  <dc:description/>
  <dc:language>en-US</dc:language>
  <cp:lastModifiedBy>Anon Anon</cp:lastModifiedBy>
  <dcterms:modified xsi:type="dcterms:W3CDTF">2005-08-16T04:24:38Z</dcterms:modified>
  <cp:revision>26</cp:revision>
  <dc:subject/>
  <dc:title>Nicene Creed</dc:title>
</cp:coreProperties>
</file>